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A034-E906-4941-9DBC-64A2B73ED4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9276-9AF0-4AD5-9B63-08D191D935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CB90-2E54-4FB9-AB5D-D64BDFA931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2DAB-1F3F-4345-A290-0587D2781A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CB5E-E1FD-4434-B8A8-B0A8DA951A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DFD7-1E63-4335-8473-8DAA1E6F71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576-DD92-4FB8-95AA-0C0ECE5C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ACA-9EFB-471A-B973-0DB85F62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59D5-23FA-43E9-8428-B40559EC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865-FD23-421A-BC4C-E07D3726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29F-DD87-41E8-92C1-763FC674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16F-D681-4550-BC37-11AC098A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12C-8B92-42A4-9B0C-9876FB82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571-EB30-438C-BBBB-3D3D0D96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3ED-C4F8-4F90-A365-3EAC6376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B2D-2480-4BF9-8A21-336EB1D4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2717-C408-42D0-8E17-BDC0CB89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2FC-E334-44FB-BA70-8F8EC994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EF0D-2E47-4849-8AD5-E58CD61CB6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9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lxn"/>
          <p:cNvPicPr/>
          <p:nvPr/>
        </p:nvPicPr>
        <p:blipFill>
          <a:blip r:embed="rId1"/>
          <a:stretch/>
        </p:blipFill>
        <p:spPr>
          <a:xfrm>
            <a:off x="0" y="235080"/>
            <a:ext cx="9144000" cy="6622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28840" y="1928520"/>
            <a:ext cx="7215120" cy="176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9f1ff"/>
                </a:solidFill>
                <a:latin typeface="Arial"/>
              </a:rPr>
              <a:t>НавЛюкс 201</a:t>
            </a:r>
            <a:r>
              <a:rPr b="1" lang="en-US" sz="5400" spc="-1" strike="noStrike">
                <a:solidFill>
                  <a:srgbClr val="c9f1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42920" y="5880240"/>
            <a:ext cx="153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Kyiv</a:t>
            </a:r>
            <a:r>
              <a:rPr b="1" i="1" lang="uk-UA" sz="15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1547640" y="2852640"/>
            <a:ext cx="64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Garmin_logo_low_res.gif"/>
          <p:cNvPicPr/>
          <p:nvPr/>
        </p:nvPicPr>
        <p:blipFill>
          <a:blip r:embed="rId2"/>
          <a:stretch/>
        </p:blipFill>
        <p:spPr>
          <a:xfrm>
            <a:off x="3357720" y="4370400"/>
            <a:ext cx="3450960" cy="974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680" y="28548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0200"/>
                </a:solidFill>
                <a:latin typeface="Arial"/>
              </a:rPr>
              <a:t>Покрыт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left_banner"/>
          <p:cNvPicPr/>
          <p:nvPr/>
        </p:nvPicPr>
        <p:blipFill>
          <a:blip r:embed="rId1"/>
          <a:stretch/>
        </p:blipFill>
        <p:spPr>
          <a:xfrm>
            <a:off x="0" y="0"/>
            <a:ext cx="19447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11" descr="Luxena.UA.NavMap.Coverage.UA.png"/>
          <p:cNvPicPr/>
          <p:nvPr/>
        </p:nvPicPr>
        <p:blipFill>
          <a:blip r:embed="rId2"/>
          <a:stretch/>
        </p:blipFill>
        <p:spPr>
          <a:xfrm>
            <a:off x="2143080" y="1484280"/>
            <a:ext cx="67230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NavLux2011.jpg"/>
          <p:cNvPicPr/>
          <p:nvPr/>
        </p:nvPicPr>
        <p:blipFill>
          <a:blip r:embed="rId3"/>
          <a:stretch/>
        </p:blipFill>
        <p:spPr>
          <a:xfrm>
            <a:off x="2151000" y="1484280"/>
            <a:ext cx="6746760" cy="4170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09680" y="3567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0200"/>
                </a:solidFill>
                <a:latin typeface="Arial"/>
              </a:rPr>
              <a:t>Результат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95640" y="1557360"/>
            <a:ext cx="6697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Aft>
                <a:spcPts val="374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крытие расширено с 65 до 425 нас. пунк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Aft>
                <a:spcPts val="374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недрение новых возможносте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int Addressing, Lane Assist, Speed Limit, Junction View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Aft>
                <a:spcPts val="374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ногоязычн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Aft>
                <a:spcPts val="374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асширение БД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I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 85 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Aft>
                <a:spcPts val="374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етализация междугородней се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Aft>
                <a:spcPts val="374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епрерывная актуализац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Aft>
                <a:spcPts val="374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ыполнены полевые работы по городам-миллионни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left_banner"/>
          <p:cNvPicPr/>
          <p:nvPr/>
        </p:nvPicPr>
        <p:blipFill>
          <a:blip r:embed="rId1"/>
          <a:stretch/>
        </p:blipFill>
        <p:spPr>
          <a:xfrm>
            <a:off x="0" y="0"/>
            <a:ext cx="194472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Garmin logo-low res.jpg"/>
          <p:cNvPicPr/>
          <p:nvPr/>
        </p:nvPicPr>
        <p:blipFill>
          <a:blip r:embed="rId2"/>
          <a:stretch/>
        </p:blipFill>
        <p:spPr>
          <a:xfrm>
            <a:off x="7072200" y="5857920"/>
            <a:ext cx="1765440" cy="47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navlux-logo.png"/>
          <p:cNvPicPr/>
          <p:nvPr/>
        </p:nvPicPr>
        <p:blipFill>
          <a:blip r:embed="rId3"/>
          <a:stretch/>
        </p:blipFill>
        <p:spPr>
          <a:xfrm>
            <a:off x="2259000" y="6013440"/>
            <a:ext cx="1955880" cy="41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680" y="3567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0200"/>
                </a:solidFill>
                <a:latin typeface="Arial"/>
              </a:rPr>
              <a:t>Цели 201</a:t>
            </a:r>
            <a:r>
              <a:rPr b="1" lang="en-US" sz="3200" spc="-1" strike="noStrike">
                <a:solidFill>
                  <a:srgbClr val="e102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95640" y="1714320"/>
            <a:ext cx="669744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40000"/>
              </a:lnSpc>
              <a:spcAft>
                <a:spcPts val="451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овые возможности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int Addressing, Lane Assist, Speed Limit, Junction View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40000"/>
              </a:lnSpc>
              <a:spcAft>
                <a:spcPts val="451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новление городов-миллионников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40000"/>
              </a:lnSpc>
              <a:spcAft>
                <a:spcPts val="451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OI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труктуризация, повышение качества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40000"/>
              </a:lnSpc>
              <a:spcAft>
                <a:spcPts val="451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крытие: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актуализация и ново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40000"/>
              </a:lnSpc>
              <a:spcAft>
                <a:spcPts val="451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пуляризац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left_banner"/>
          <p:cNvPicPr/>
          <p:nvPr/>
        </p:nvPicPr>
        <p:blipFill>
          <a:blip r:embed="rId1"/>
          <a:stretch/>
        </p:blipFill>
        <p:spPr>
          <a:xfrm>
            <a:off x="0" y="0"/>
            <a:ext cx="194472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Garmin logo-low res.jpg"/>
          <p:cNvPicPr/>
          <p:nvPr/>
        </p:nvPicPr>
        <p:blipFill>
          <a:blip r:embed="rId2"/>
          <a:stretch/>
        </p:blipFill>
        <p:spPr>
          <a:xfrm>
            <a:off x="7072200" y="5857920"/>
            <a:ext cx="1765440" cy="474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navlux-logo.png"/>
          <p:cNvPicPr/>
          <p:nvPr/>
        </p:nvPicPr>
        <p:blipFill>
          <a:blip r:embed="rId3"/>
          <a:stretch/>
        </p:blipFill>
        <p:spPr>
          <a:xfrm>
            <a:off x="2259000" y="6013440"/>
            <a:ext cx="1955880" cy="41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95640" y="907560"/>
            <a:ext cx="648000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пасибо за внимание</a:t>
            </a: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удем рады Вашему обращению по любым вопросам</a:t>
            </a:r>
            <a:br>
              <a:rPr sz="3200"/>
            </a:br>
            <a:br>
              <a:rPr sz="32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ел: 501-08-47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act@luxena.com</a:t>
            </a:r>
            <a:br>
              <a:rPr sz="2000"/>
            </a:br>
            <a:br>
              <a:rPr sz="4000"/>
            </a:br>
            <a:r>
              <a:rPr b="1" lang="lt-LT" sz="1400" spc="-1" strike="noStrike">
                <a:solidFill>
                  <a:srgbClr val="000066"/>
                </a:solidFill>
                <a:latin typeface="Arial"/>
              </a:rPr>
              <a:t>Luxena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© </a:t>
            </a:r>
            <a:r>
              <a:rPr b="1" lang="lt-LT" sz="1400" spc="-1" strike="noStrike">
                <a:solidFill>
                  <a:srgbClr val="000066"/>
                </a:solidFill>
                <a:latin typeface="Arial"/>
              </a:rPr>
              <a:t>20</a:t>
            </a: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11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kraine, Ky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left_banner"/>
          <p:cNvPicPr/>
          <p:nvPr/>
        </p:nvPicPr>
        <p:blipFill>
          <a:blip r:embed="rId1"/>
          <a:stretch/>
        </p:blipFill>
        <p:spPr>
          <a:xfrm>
            <a:off x="0" y="0"/>
            <a:ext cx="194472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01:35Z</dcterms:created>
  <dc:creator>-</dc:creator>
  <dc:description/>
  <dc:language>en-US</dc:language>
  <cp:lastModifiedBy>mariya.kushakova</cp:lastModifiedBy>
  <dcterms:modified xsi:type="dcterms:W3CDTF">2011-01-21T09:18:11Z</dcterms:modified>
  <cp:revision>760</cp:revision>
  <dc:subject/>
  <dc:title>sintagma</dc:title>
</cp:coreProperties>
</file>