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536-BA02-4951-B33E-53E5C2DF2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937-92EB-45D4-B370-B432011A1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40A-A22A-4F7F-8FA7-FC1A56C0F4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A17-960E-4690-875E-81041F1596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9D0-F9AD-4B1C-B59B-8ED3B3521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C4B9-F1E8-453B-919F-A322933855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A8C-CC14-4678-93D3-CE1253C9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D31-98BB-4BE7-8A0D-EA36C6C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AE4-F242-4A16-8E9F-1E9CABB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08E-F67B-4BAD-8A91-A1B592A9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3AC-28A9-4DDA-AD22-EBBAB04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959-85DB-48BF-8034-3E7C44B8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303-EC8A-44A8-B2D5-E72784EE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262-6657-4B21-BD0D-63663A01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5F9-070A-4317-80D1-153D653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19D-4ABB-47DD-AB4C-6CAE269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555-B22B-4061-9FF5-C319DFD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B74-3499-40C4-93CA-F0B8E1F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5A7-438F-414B-A975-C0ACFA954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9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lxn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62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1928520"/>
            <a:ext cx="7215120" cy="176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9f1ff"/>
                </a:solidFill>
                <a:latin typeface="Arial"/>
              </a:rPr>
              <a:t>НавЛюкс 201</a:t>
            </a:r>
            <a:r>
              <a:rPr b="1" lang="en-US" sz="5400" spc="-1" strike="noStrike">
                <a:solidFill>
                  <a:srgbClr val="c9f1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2920" y="5880240"/>
            <a:ext cx="153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Kyiv</a:t>
            </a:r>
            <a:r>
              <a:rPr b="1" i="1" lang="uk-UA" sz="15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1547640" y="2852640"/>
            <a:ext cx="64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Garmin_logo_low_res.gif"/>
          <p:cNvPicPr/>
          <p:nvPr/>
        </p:nvPicPr>
        <p:blipFill>
          <a:blip r:embed="rId2"/>
          <a:stretch/>
        </p:blipFill>
        <p:spPr>
          <a:xfrm>
            <a:off x="3357720" y="4370400"/>
            <a:ext cx="3450960" cy="97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8548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1" descr="Luxena.UA.NavMap.Coverage.UA.png"/>
          <p:cNvPicPr/>
          <p:nvPr/>
        </p:nvPicPr>
        <p:blipFill>
          <a:blip r:embed="rId2"/>
          <a:stretch/>
        </p:blipFill>
        <p:spPr>
          <a:xfrm>
            <a:off x="2143080" y="1484280"/>
            <a:ext cx="67230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NavLux2011.jpg"/>
          <p:cNvPicPr/>
          <p:nvPr/>
        </p:nvPicPr>
        <p:blipFill>
          <a:blip r:embed="rId3"/>
          <a:stretch/>
        </p:blipFill>
        <p:spPr>
          <a:xfrm>
            <a:off x="2151000" y="1484280"/>
            <a:ext cx="6746760" cy="417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567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Результат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95640" y="1557360"/>
            <a:ext cx="6697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крытие расширено с 65 до 425 нас. пунк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недрение новых возможносте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int Addressing, Lane Assist, Speed Limit, Junction View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ногоязыч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сширение БД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 85 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етализация междугородней се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прерывная актуализац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Aft>
                <a:spcPts val="374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полнены полевые работы по городам-миллион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Garmin logo-low res.jpg"/>
          <p:cNvPicPr/>
          <p:nvPr/>
        </p:nvPicPr>
        <p:blipFill>
          <a:blip r:embed="rId2"/>
          <a:stretch/>
        </p:blipFill>
        <p:spPr>
          <a:xfrm>
            <a:off x="7072200" y="5857920"/>
            <a:ext cx="176544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navlux-logo.png"/>
          <p:cNvPicPr/>
          <p:nvPr/>
        </p:nvPicPr>
        <p:blipFill>
          <a:blip r:embed="rId3"/>
          <a:stretch/>
        </p:blipFill>
        <p:spPr>
          <a:xfrm>
            <a:off x="2259000" y="6013440"/>
            <a:ext cx="195588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3567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0200"/>
                </a:solidFill>
                <a:latin typeface="Arial"/>
              </a:rPr>
              <a:t>Цели 201</a:t>
            </a:r>
            <a:r>
              <a:rPr b="1" lang="en-US" sz="3200" spc="-1" strike="noStrike">
                <a:solidFill>
                  <a:srgbClr val="e102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640" y="1714320"/>
            <a:ext cx="66974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овые возможност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int Addressing, Lane Assist, Speed Limit, Junction View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новление городов-миллионников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руктуризация, повышение качеств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крытие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ктуализация и нов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Aft>
                <a:spcPts val="451"/>
              </a:spcAft>
              <a:buClr>
                <a:srgbClr val="5a5a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пуляриза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Garmin logo-low res.jpg"/>
          <p:cNvPicPr/>
          <p:nvPr/>
        </p:nvPicPr>
        <p:blipFill>
          <a:blip r:embed="rId2"/>
          <a:stretch/>
        </p:blipFill>
        <p:spPr>
          <a:xfrm>
            <a:off x="7072200" y="5857920"/>
            <a:ext cx="1765440" cy="47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navlux-logo.png"/>
          <p:cNvPicPr/>
          <p:nvPr/>
        </p:nvPicPr>
        <p:blipFill>
          <a:blip r:embed="rId3"/>
          <a:stretch/>
        </p:blipFill>
        <p:spPr>
          <a:xfrm>
            <a:off x="2259000" y="6013440"/>
            <a:ext cx="195588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640" y="907560"/>
            <a:ext cx="64800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дем рады Вашему обращению по любым вопросам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ел: 501-08-47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ct@luxena.com</a:t>
            </a:r>
            <a:br>
              <a:rPr sz="2000"/>
            </a:br>
            <a:br>
              <a:rPr sz="4000"/>
            </a:br>
            <a:r>
              <a:rPr b="1" lang="lt-LT" sz="1400" spc="-1" strike="noStrike">
                <a:solidFill>
                  <a:srgbClr val="000066"/>
                </a:solidFill>
                <a:latin typeface="Arial"/>
              </a:rPr>
              <a:t>Luxena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© </a:t>
            </a:r>
            <a:r>
              <a:rPr b="1" lang="lt-LT" sz="14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11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kraine, Ky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left_banner"/>
          <p:cNvPicPr/>
          <p:nvPr/>
        </p:nvPicPr>
        <p:blipFill>
          <a:blip r:embed="rId1"/>
          <a:stretch/>
        </p:blipFill>
        <p:spPr>
          <a:xfrm>
            <a:off x="0" y="0"/>
            <a:ext cx="1944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01:35Z</dcterms:created>
  <dc:creator>-</dc:creator>
  <dc:description/>
  <dc:language>en-US</dc:language>
  <cp:lastModifiedBy>mariya.kushakova</cp:lastModifiedBy>
  <dcterms:modified xsi:type="dcterms:W3CDTF">2011-01-21T09:18:11Z</dcterms:modified>
  <cp:revision>760</cp:revision>
  <dc:subject/>
  <dc:title>sintagma</dc:title>
</cp:coreProperties>
</file>