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7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2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67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A33-4793-415B-9EBE-F35F245E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A14-513F-4DA5-A012-68CD49C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5D7-A9FF-43C3-8E15-F0A74F2F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3F5-DD41-4067-AE6E-DFF2F908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E643-E384-453A-93E3-CE77D9EF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D5D9-0B5B-4544-A937-D5ECD64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2171-C48E-4EE4-97C9-A7D4CE1E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81F-E681-45EB-A3F6-2F4D436C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8A2B-1E08-4DEC-88BC-4AA876EE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ED4C-E193-406E-B9D1-7EC65A9B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F90E-E412-4473-864C-B762448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CE4-5A0B-4A9B-BAC7-A7C8399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0A42-745B-440E-954B-67513E1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D0DE-2B30-45D6-8476-B954AD18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881E-3922-4D5A-A59A-7E080B1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2AEA-D1E5-4B59-94DB-D68CFFD0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020A-7C07-4FC8-ADEF-8A391A3E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ABC-30E1-427E-B8EA-A2F7CC6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71A-015A-41D9-8922-99DFDDE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AB9-93CB-4BF7-AB47-35527C74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83E-8A54-4149-9A5A-BCF0A0D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50A-BB91-498B-9F3E-5FE9524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975-C828-49E7-AD49-2C0AFB0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288-3ACA-4461-B012-2B6A23EC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79556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114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9280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067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33E8-65DC-4A7D-AEAA-D643D631516A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1320-BEEF-4C95-A483-B98F9C956BA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79412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100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136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52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69236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43D8-7BB9-4B15-8F37-F3F1432FE9AD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575-D6DA-4C0D-9D09-3D6FA6DDD0F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65.102.174.116/rammount/productdetail.aspx?partnumber=RAM-HOL-AQ1U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65.102.174.116/rammount/productdetail.aspx?partnumber=RAM-HOL-AQ2U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65.102.174.116/rammount/productdetail.aspx?partnumber=RAM-HOL-AQ3U" TargetMode="External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hyperlink" Target="http://www.ram-mount.com/camera_mount/index_files/ramb138237iu2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www.ram-mount.com/products/securitymounts.htm" TargetMode="External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27.jpeg"/><Relationship Id="rId4" Type="http://schemas.openxmlformats.org/officeDocument/2006/relationships/image" Target="../media/image54.jpeg"/><Relationship Id="rId5" Type="http://schemas.openxmlformats.org/officeDocument/2006/relationships/hyperlink" Target="http://www.ram-mount.com/index_files/ram340_1.jpg" TargetMode="External"/><Relationship Id="rId6" Type="http://schemas.openxmlformats.org/officeDocument/2006/relationships/image" Target="../media/image55.jpe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am-mount.com/index_files/ramb177ga7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ram-mount.com/index_files/ramb177camera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ram-mount.com/index_files/ramb177237.jpg" TargetMode="External"/><Relationship Id="rId6" Type="http://schemas.openxmlformats.org/officeDocument/2006/relationships/image" Target="../media/image57.jpeg"/><Relationship Id="rId7" Type="http://schemas.openxmlformats.org/officeDocument/2006/relationships/hyperlink" Target="http://www.ram-mount.com/index_files/ramb177ga14.jpg" TargetMode="External"/><Relationship Id="rId8" Type="http://schemas.openxmlformats.org/officeDocument/2006/relationships/image" Target="../media/image33.jpeg"/><Relationship Id="rId9" Type="http://schemas.openxmlformats.org/officeDocument/2006/relationships/hyperlink" Target="http://www.ram-mount.com/index_files/rap1056224ga22_c580.jpg" TargetMode="External"/><Relationship Id="rId10" Type="http://schemas.openxmlformats.org/officeDocument/2006/relationships/image" Target="../media/image58.jpeg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hyperlink" Target="http://www.ram-mount.com/index_files/rapb104224ga23_nuvi.jpg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www.ram-mount.com/index_files/ramb149zga23_nuvi.jpg" TargetMode="External"/><Relationship Id="rId6" Type="http://schemas.openxmlformats.org/officeDocument/2006/relationships/image" Target="../media/image71.jpeg"/><Relationship Id="rId7" Type="http://schemas.openxmlformats.org/officeDocument/2006/relationships/hyperlink" Target="http://www.ram-mount.com/index_files/ramb174ga23_nuvi.jpg" TargetMode="External"/><Relationship Id="rId8" Type="http://schemas.openxmlformats.org/officeDocument/2006/relationships/image" Target="../media/image72.jpeg"/><Relationship Id="rId9" Type="http://schemas.openxmlformats.org/officeDocument/2006/relationships/hyperlink" Target="http://www.ram-mount.com/index_files/ramb279ga23_nuvi.jpg" TargetMode="External"/><Relationship Id="rId10" Type="http://schemas.openxmlformats.org/officeDocument/2006/relationships/image" Target="../media/image73.jpeg"/><Relationship Id="rId11" Type="http://schemas.openxmlformats.org/officeDocument/2006/relationships/hyperlink" Target="http://www.ram-mount.com/mount/magellan_triton_mounts.htm" TargetMode="External"/><Relationship Id="rId12" Type="http://schemas.openxmlformats.org/officeDocument/2006/relationships/image" Target="../media/image74.jpeg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am-mount.com/index_files/tds_nomad_mount_atv.jpg" TargetMode="External"/><Relationship Id="rId2" Type="http://schemas.openxmlformats.org/officeDocument/2006/relationships/image" Target="../media/image75.jpeg"/><Relationship Id="rId3" Type="http://schemas.openxmlformats.org/officeDocument/2006/relationships/hyperlink" Target="http://www.ram-mount.com/products/laptoptray.htm" TargetMode="External"/><Relationship Id="rId4" Type="http://schemas.openxmlformats.org/officeDocument/2006/relationships/image" Target="../media/image76.jpeg"/><Relationship Id="rId5" Type="http://schemas.openxmlformats.org/officeDocument/2006/relationships/hyperlink" Target="http://www.ram-mount.com/nodrillsystems/printers.htm" TargetMode="External"/><Relationship Id="rId6" Type="http://schemas.openxmlformats.org/officeDocument/2006/relationships/image" Target="../media/image77.jpeg"/><Relationship Id="rId7" Type="http://schemas.openxmlformats.org/officeDocument/2006/relationships/hyperlink" Target="http://www.ram-mount.com/laptop_mount/motion_computer_mount.htm" TargetMode="External"/><Relationship Id="rId8" Type="http://schemas.openxmlformats.org/officeDocument/2006/relationships/image" Target="../media/image78.jpeg"/><Relationship Id="rId9" Type="http://schemas.openxmlformats.org/officeDocument/2006/relationships/hyperlink" Target="http://www.ram-mount.com/products/ram_powered_dock_toughbook.htm" TargetMode="External"/><Relationship Id="rId10" Type="http://schemas.openxmlformats.org/officeDocument/2006/relationships/image" Target="../media/image79.jpeg"/><Relationship Id="rId11" Type="http://schemas.openxmlformats.org/officeDocument/2006/relationships/hyperlink" Target="http://www.ram-mount.com/laptop_mount/laptop_mount_accessories.htm" TargetMode="External"/><Relationship Id="rId12" Type="http://schemas.openxmlformats.org/officeDocument/2006/relationships/image" Target="../media/image80.jpeg"/><Relationship Id="rId13" Type="http://schemas.openxmlformats.org/officeDocument/2006/relationships/hyperlink" Target="http://www.ram-mount.com/index_files/ramb149zun1_inno.jpg" TargetMode="External"/><Relationship Id="rId14" Type="http://schemas.openxmlformats.org/officeDocument/2006/relationships/image" Target="../media/image36.jpeg"/><Relationship Id="rId15" Type="http://schemas.openxmlformats.org/officeDocument/2006/relationships/hyperlink" Target="http://www.ram-mount.com/index_files/ramb138279un1_inno.jpg" TargetMode="External"/><Relationship Id="rId16" Type="http://schemas.openxmlformats.org/officeDocument/2006/relationships/image" Target="../media/image81.jpeg"/><Relationship Id="rId17" Type="http://schemas.openxmlformats.org/officeDocument/2006/relationships/hyperlink" Target="http://www.ram-mount.com/mount/iframe/ramb166un1_inno.htm" TargetMode="External"/><Relationship Id="rId18" Type="http://schemas.openxmlformats.org/officeDocument/2006/relationships/image" Target="../media/image82.jpeg"/><Relationship Id="rId19" Type="http://schemas.openxmlformats.org/officeDocument/2006/relationships/image" Target="../media/image1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am-mount.com/mount/aviation_glareshield_yoke_mount.htm" TargetMode="External"/><Relationship Id="rId2" Type="http://schemas.openxmlformats.org/officeDocument/2006/relationships/image" Target="../media/image83.jpeg"/><Relationship Id="rId3" Type="http://schemas.openxmlformats.org/officeDocument/2006/relationships/hyperlink" Target="http://www.ram-mount.com/mount/tomtom_mount_720_mounts.htm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ram-mount.com/mount/iphone_mount_ipod_mounts.htm" TargetMode="External"/><Relationship Id="rId6" Type="http://schemas.openxmlformats.org/officeDocument/2006/relationships/image" Target="../media/image84.png"/><Relationship Id="rId7" Type="http://schemas.openxmlformats.org/officeDocument/2006/relationships/hyperlink" Target="http://www.ram-mount.com/mount/ram_avmap_mount.htm" TargetMode="External"/><Relationship Id="rId8" Type="http://schemas.openxmlformats.org/officeDocument/2006/relationships/image" Target="../media/image85.jpeg"/><Relationship Id="rId9" Type="http://schemas.openxmlformats.org/officeDocument/2006/relationships/image" Target="../media/image86.jpeg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nav@navionika.com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avionika.com/ru/catalog/ram-mount/ram_gps/?id=1464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navionika.com/ru/catalog/ram-mount/ram_gps/?id=1473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navionika.com/ru/catalog/ram-mount/ram_gps/?id=1478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navionika.com/ru/catalog/ram-mount/ram_gps/?id=1479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navionika.com/ru/catalog/ram-mount/ram_gps/?id=1483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navionika.com/ru/catalog/ram-mount/ram_gps/?id=1490" TargetMode="External"/><Relationship Id="rId13" Type="http://schemas.openxmlformats.org/officeDocument/2006/relationships/image" Target="../media/image9.jpeg"/><Relationship Id="rId14" Type="http://schemas.openxmlformats.org/officeDocument/2006/relationships/hyperlink" Target="http://www.navionika.com/ru/catalog/ram-mount/ram_gps/?id=1495" TargetMode="External"/><Relationship Id="rId15" Type="http://schemas.openxmlformats.org/officeDocument/2006/relationships/image" Target="../media/image10.jpeg"/><Relationship Id="rId16" Type="http://schemas.openxmlformats.org/officeDocument/2006/relationships/hyperlink" Target="http://www.navionika.com/ru/catalog/ram-mount/ram_gps/?id=1508" TargetMode="External"/><Relationship Id="rId17" Type="http://schemas.openxmlformats.org/officeDocument/2006/relationships/image" Target="../media/image11.jpeg"/><Relationship Id="rId18" Type="http://schemas.openxmlformats.org/officeDocument/2006/relationships/hyperlink" Target="http://www.navionika.com/ru/catalog/ram-mount/ram_spec/?id=1493" TargetMode="External"/><Relationship Id="rId19" Type="http://schemas.openxmlformats.org/officeDocument/2006/relationships/image" Target="../media/image12.jpeg"/><Relationship Id="rId20" Type="http://schemas.openxmlformats.org/officeDocument/2006/relationships/hyperlink" Target="http://www.navionika.com/ru/catalog/ram-mount/ram_spec/?id=1469" TargetMode="External"/><Relationship Id="rId21" Type="http://schemas.openxmlformats.org/officeDocument/2006/relationships/image" Target="../media/image13.jpeg"/><Relationship Id="rId22" Type="http://schemas.openxmlformats.org/officeDocument/2006/relationships/hyperlink" Target="http://www.navionika.com/ru/catalog/ram-mount/ram_spec/?id=1494" TargetMode="External"/><Relationship Id="rId23" Type="http://schemas.openxmlformats.org/officeDocument/2006/relationships/image" Target="../media/image14.jpeg"/><Relationship Id="rId24" Type="http://schemas.openxmlformats.org/officeDocument/2006/relationships/hyperlink" Target="http://www.navionika.com/ru/catalog/ram-mount/ram_spec/?id=1506" TargetMode="External"/><Relationship Id="rId25" Type="http://schemas.openxmlformats.org/officeDocument/2006/relationships/image" Target="../media/image15.jpeg"/><Relationship Id="rId26" Type="http://schemas.openxmlformats.org/officeDocument/2006/relationships/hyperlink" Target="http://www.navionika.com/ru/catalog/ram-mount/ram_spec/?id=1507" TargetMode="External"/><Relationship Id="rId27" Type="http://schemas.openxmlformats.org/officeDocument/2006/relationships/image" Target="../media/image16.jpeg"/><Relationship Id="rId28" Type="http://schemas.openxmlformats.org/officeDocument/2006/relationships/hyperlink" Target="http://www.navionika.com/ru/catalog/ram-mount/ram_spec/?id=1500" TargetMode="External"/><Relationship Id="rId29" Type="http://schemas.openxmlformats.org/officeDocument/2006/relationships/image" Target="../media/image17.jpeg"/><Relationship Id="rId30" Type="http://schemas.openxmlformats.org/officeDocument/2006/relationships/hyperlink" Target="http://www.navionika.com/ru/catalog/ram-mount/ram_spec/?id=1492" TargetMode="External"/><Relationship Id="rId31" Type="http://schemas.openxmlformats.org/officeDocument/2006/relationships/image" Target="../media/image18.jpeg"/><Relationship Id="rId32" Type="http://schemas.openxmlformats.org/officeDocument/2006/relationships/hyperlink" Target="http://www.navionika.com/ru/catalog/ram-mount/ram_gps/?id=1504" TargetMode="External"/><Relationship Id="rId33" Type="http://schemas.openxmlformats.org/officeDocument/2006/relationships/image" Target="../media/image19.jpeg"/><Relationship Id="rId34" Type="http://schemas.openxmlformats.org/officeDocument/2006/relationships/hyperlink" Target="http://www.navionika.com/ru/catalog/ram-mount/ram_gps/?id=1488" TargetMode="External"/><Relationship Id="rId35" Type="http://schemas.openxmlformats.org/officeDocument/2006/relationships/image" Target="../media/image20.jpeg"/><Relationship Id="rId36" Type="http://schemas.openxmlformats.org/officeDocument/2006/relationships/image" Target="../media/image1.wmf"/><Relationship Id="rId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ram-mount.com/index_files/ramb177ga7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ru.wikipedia.org/wiki/&#1048;&#1079;&#1086;&#1073;&#1088;&#1072;&#1078;&#1077;&#1085;&#1080;&#1077;:Hammer2.jpg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hyperlink" Target="http://anekdotov.net/pic/photo4/index-page-443.html" TargetMode="External"/><Relationship Id="rId9" Type="http://schemas.openxmlformats.org/officeDocument/2006/relationships/image" Target="../media/image28.jpeg"/><Relationship Id="rId10" Type="http://schemas.openxmlformats.org/officeDocument/2006/relationships/image" Target="../media/image3.png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65.102.174.116/rammount/productdetail.aspx?partnumber=RAM-HOL-AQ1U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65.102.174.116/rammount/productdetail.aspx?partnumber=RAM-B-121-UN4U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hyperlink" Target="http://www.ram-mount.com/index_files/ramrod2008.jpg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www.ram-mount.com/index_files/ramb177ga14.jpg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-mount.com/nodrillsystems/rampodiii.htm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ram-mount.com/index_files/ramb149zun1_inno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www.ram-mount.com/mount/tomtom_mount_720_mounts.htm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www.ram-mount.com/gps_mounts/model_rino_garmin_gps_mount.htm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://www.ram-mount.com/mount/chartplotter_mounts_garmin_mount.htm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://www.ram-mount.com/mount/ram_rod_holder.htm" TargetMode="External"/><Relationship Id="rId12" Type="http://schemas.openxmlformats.org/officeDocument/2006/relationships/image" Target="../media/image40.jpeg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03240" y="3024360"/>
            <a:ext cx="6302520" cy="10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2160" y="14292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ойство крепл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M M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RAM Revolution Fishing Rod Holder Logo"/>
          <p:cNvPicPr/>
          <p:nvPr/>
        </p:nvPicPr>
        <p:blipFill>
          <a:blip r:embed="rId1"/>
          <a:stretch/>
        </p:blipFill>
        <p:spPr>
          <a:xfrm>
            <a:off x="722160" y="423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6800" y="819000"/>
            <a:ext cx="2251080" cy="3067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27520" y="954000"/>
            <a:ext cx="49528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ставляемые Вашему вниманию продукты «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 изготовлены из морского алюминия и покрыты антикоррозийной порошковой эмалью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виз компании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крепим все что угодно, к чему угод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 делает «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лидером креплений в мире. В каталоге компании более 5000 тысяч наименований товаров, в самых различных областях применения. Качество изготовления, надежность , простота в использовании – главные отличительные черты «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. Заказчиками креплений (а их более 20 крупных компаний) являю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rmin, Lowrance, Aple, Aquador, Furuno, Buster, Mares, Princess, Suzuki marine, Asus, Toshib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др.)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крепле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оответствуют стандартам качества и безопасности Европейского союза, а также имеют украинские сертификаты соответствия.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7880" y="324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ые сферы применения креплени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 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8240" y="1314360"/>
            <a:ext cx="7515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крепления приборов на плавсредствах, катерах, яхтах,  лодка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дных мотоцикл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домашней техники: авто-, мото-, вело-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Для ноутбуков, видеокамер, фотокам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легкомоторной авиатехники: легк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леты, вертолеты, мотодельтапла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крепления удили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ще во многих других случаях, где необходимо универсальное креп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932520" y="1763640"/>
            <a:ext cx="2746440" cy="299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RAM Large Size Aqua Box Hol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520" y="458640"/>
            <a:ext cx="2160720" cy="211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RAM Medium Size Aqua Box Hol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2160" y="458640"/>
            <a:ext cx="2160360" cy="2113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RAM Small Size Aqua Box Hold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7520" y="458640"/>
            <a:ext cx="2160720" cy="2113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6991200" y="458640"/>
            <a:ext cx="2417760" cy="211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182520" y="2664000"/>
            <a:ext cx="2732040" cy="4000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52880" y="261936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78600" y="2619360"/>
            <a:ext cx="243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3"/>
          <a:stretch/>
        </p:blipFill>
        <p:spPr>
          <a:xfrm>
            <a:off x="5357880" y="2619360"/>
            <a:ext cx="153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4"/>
          <a:stretch/>
        </p:blipFill>
        <p:spPr>
          <a:xfrm>
            <a:off x="3152880" y="5184720"/>
            <a:ext cx="207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5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2520" y="142920"/>
            <a:ext cx="2475000" cy="3330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378240" y="142920"/>
            <a:ext cx="2295360" cy="3330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122880" y="189000"/>
            <a:ext cx="3375000" cy="5489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496800" y="3564000"/>
            <a:ext cx="2430720" cy="310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78240" y="3564000"/>
            <a:ext cx="2295360" cy="3106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1800" y="279360"/>
            <a:ext cx="2386080" cy="3086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52880" y="233280"/>
            <a:ext cx="2386080" cy="311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97520" y="279360"/>
            <a:ext cx="3600360" cy="526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08240" y="3743280"/>
            <a:ext cx="2430720" cy="290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1800" y="3743280"/>
            <a:ext cx="2386080" cy="2881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2880" y="233280"/>
            <a:ext cx="2627640" cy="270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3240" y="279360"/>
            <a:ext cx="2295720" cy="2654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753240" y="279360"/>
            <a:ext cx="2057400" cy="265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167520" y="3429000"/>
            <a:ext cx="3046320" cy="2114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82520" y="3429000"/>
            <a:ext cx="2745000" cy="3144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3197160" y="3429000"/>
            <a:ext cx="2386080" cy="314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2520" y="458640"/>
            <a:ext cx="2689200" cy="4770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467160" y="414360"/>
            <a:ext cx="2789280" cy="4800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6708600" y="414360"/>
            <a:ext cx="2914920" cy="4770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520" y="1429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952880" y="1429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13600" y="142920"/>
            <a:ext cx="2556000" cy="2476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43240" y="142920"/>
            <a:ext cx="2509920" cy="247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13240" y="2708280"/>
            <a:ext cx="2914560" cy="2571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3960" y="2708280"/>
            <a:ext cx="2914560" cy="2571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38240" y="2754360"/>
            <a:ext cx="3246480" cy="3824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In use image of TDS Nomad Mount on AT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8240" y="324000"/>
            <a:ext cx="2743200" cy="2970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08240" y="32400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57880" y="32400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08960" y="324000"/>
            <a:ext cx="2125440" cy="2171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8960" y="2619360"/>
            <a:ext cx="2101680" cy="2192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08240" y="2619360"/>
            <a:ext cx="2158920" cy="2205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357880" y="2619360"/>
            <a:ext cx="2160360" cy="2205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82520" y="3519360"/>
            <a:ext cx="2732040" cy="314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108240" y="4915080"/>
            <a:ext cx="2158920" cy="1753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9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52880" y="3473280"/>
            <a:ext cx="2609640" cy="2746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7160" y="3473280"/>
            <a:ext cx="2700360" cy="2791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52880" y="233280"/>
            <a:ext cx="2655720" cy="2970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8600" y="279360"/>
            <a:ext cx="3600360" cy="5219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182520" y="233280"/>
            <a:ext cx="2790720" cy="2925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73600" y="3337560"/>
            <a:ext cx="46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Юрий Шерем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родакт–менедже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47880" y="368280"/>
            <a:ext cx="5718240" cy="959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Юрий Шеремет"/>
          <p:cNvPicPr/>
          <p:nvPr/>
        </p:nvPicPr>
        <p:blipFill>
          <a:blip r:embed="rId2"/>
          <a:stretch/>
        </p:blipFill>
        <p:spPr>
          <a:xfrm>
            <a:off x="566640" y="1628640"/>
            <a:ext cx="3778200" cy="459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7160" y="142920"/>
            <a:ext cx="3105000" cy="3429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67160" y="142920"/>
            <a:ext cx="5715000" cy="3421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7160" y="3699000"/>
            <a:ext cx="3105000" cy="3024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513240" y="3699000"/>
            <a:ext cx="2023920" cy="3016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387520" y="1359000"/>
            <a:ext cx="4276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нтакт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69000" y="2454480"/>
            <a:ext cx="6758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ООО «Навион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краина, 02098, Кие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спект Тычины,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дакт-менедж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Юрий Шерем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l:  +380 44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ax: +380 44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nav@navionika.com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YuriySheremet@versiy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http://www.navionika.co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297160" y="233280"/>
            <a:ext cx="540072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8986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Универсальные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крепления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RAM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MOUNT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57520" y="4508640"/>
            <a:ext cx="2416320" cy="180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рговая марк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2880" y="2708280"/>
            <a:ext cx="8145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ания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 MOUNT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была основана в 1994 году в США.  Основным видом деятельности компании является проектирование и производство инновационных, высококачественных товаров по конкурентоспособным ценам, и обеспечению лучшего обслуживания и поставке продуктов морского оборудова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ании является поставщиком для морской промышленности  качественного морского оборудования и аксессуаров. Компания постоянно усовершенствует свои продукты, качество обслуживания и поставки. Производственные мощности находятся в Сиэтле, в Штате Теннесси и Флориде. Штаб компании находится в Сиэтле, С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8600" y="1179360"/>
            <a:ext cx="2415960" cy="13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17520" y="142920"/>
            <a:ext cx="891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пускаемая продук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08240" y="1179360"/>
            <a:ext cx="3465720" cy="23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RAM-В-138-GA5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2880" y="2438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RAM-B-138-GA12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73960" y="207972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RAM-B-149Z-GA7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22520" y="2438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RAM-B-138-GA7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32520" y="2079720"/>
            <a:ext cx="1040040" cy="1428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RAM-B-138-GA14U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6716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RAM-101-G2U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978600" y="3699000"/>
            <a:ext cx="1052640" cy="1428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RAM-B-107-1U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61800" y="410364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RAM-HOL-AQ1U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66680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RAM-111U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622520" y="1133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RAM-114-FU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418600" y="3699000"/>
            <a:ext cx="107928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RAM-338U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61800" y="5454720"/>
            <a:ext cx="1097280" cy="1403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RAM-101U-B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622520" y="4103640"/>
            <a:ext cx="1170000" cy="1125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RAM-231U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6216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RAM-117U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3062160" y="3743280"/>
            <a:ext cx="1143000" cy="147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RAM-109VSB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272880" y="1133640"/>
            <a:ext cx="1097280" cy="109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RAM-MAG-1U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5583240" y="3743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RAM-B-101-G3U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322880" y="3743280"/>
            <a:ext cx="1143000" cy="147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6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520" y="549360"/>
            <a:ext cx="53564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ания  Навионика представляет креплени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 MOUNT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рынке Украи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енные виды креплений делают крепление и установку приборов максимально простой и удоб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но креплени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но разделить на следующие группы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репления для навигаторов, эхолотов, картплотте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репления для удоч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репления авто-, мото-, вело-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боксы и специальные креп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универсальные креп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омпоненты креп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53240" y="549360"/>
            <a:ext cx="2415960" cy="180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13240" y="2438280"/>
            <a:ext cx="3516480" cy="3041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22520" y="4373640"/>
            <a:ext cx="1981080" cy="198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62160" y="6192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епить можно по разному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RAP-105-6224-GA12U"/>
          <p:cNvPicPr/>
          <p:nvPr/>
        </p:nvPicPr>
        <p:blipFill>
          <a:blip r:embed="rId2"/>
          <a:stretch/>
        </p:blipFill>
        <p:spPr>
          <a:xfrm>
            <a:off x="138240" y="3429000"/>
            <a:ext cx="2125440" cy="3025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RAM-B-149Z-GA14"/>
          <p:cNvPicPr/>
          <p:nvPr/>
        </p:nvPicPr>
        <p:blipFill>
          <a:blip r:embed="rId3"/>
          <a:stretch/>
        </p:blipFill>
        <p:spPr>
          <a:xfrm>
            <a:off x="2522520" y="2394000"/>
            <a:ext cx="1981080" cy="1852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RAM-101-G2U"/>
          <p:cNvPicPr/>
          <p:nvPr/>
        </p:nvPicPr>
        <p:blipFill>
          <a:blip r:embed="rId4"/>
          <a:stretch/>
        </p:blipFill>
        <p:spPr>
          <a:xfrm>
            <a:off x="138240" y="142920"/>
            <a:ext cx="2103480" cy="3195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Столярный молоток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48600" y="3384720"/>
            <a:ext cx="2384280" cy="1923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RAM-117U"/>
          <p:cNvPicPr/>
          <p:nvPr/>
        </p:nvPicPr>
        <p:blipFill>
          <a:blip r:embed="rId7"/>
          <a:stretch/>
        </p:blipFill>
        <p:spPr>
          <a:xfrm>
            <a:off x="4862520" y="2394000"/>
            <a:ext cx="2070000" cy="287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Фото-приколы 4 | Funny Photo 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48600" y="189000"/>
            <a:ext cx="2386080" cy="3060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3467160" y="503280"/>
            <a:ext cx="24159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47880" y="954000"/>
          <a:ext cx="8640360" cy="4861080"/>
        </p:xfrm>
        <a:graphic>
          <a:graphicData uri="http://schemas.openxmlformats.org/drawingml/2006/table">
            <a:tbl>
              <a:tblPr/>
              <a:tblGrid>
                <a:gridCol w="2351160"/>
                <a:gridCol w="3612240"/>
                <a:gridCol w="2676960"/>
              </a:tblGrid>
              <a:tr h="23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9680" y="324000"/>
            <a:ext cx="94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лагаем это делать с помощью универсальных креп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RAM Large Size Aqua Box Hol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13600" y="3384720"/>
            <a:ext cx="2295360" cy="2339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27160" y="998640"/>
            <a:ext cx="2025720" cy="198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13600" y="99864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RAM ROD 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38240" y="3338640"/>
            <a:ext cx="2114640" cy="2295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13240" y="33847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3513240" y="998640"/>
            <a:ext cx="3195360" cy="2025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82520" y="1538280"/>
          <a:ext cx="7471080" cy="4635360"/>
        </p:xfrm>
        <a:graphic>
          <a:graphicData uri="http://schemas.openxmlformats.org/drawingml/2006/table">
            <a:tbl>
              <a:tblPr/>
              <a:tblGrid>
                <a:gridCol w="2227320"/>
                <a:gridCol w="2933640"/>
                <a:gridCol w="2310120"/>
              </a:tblGrid>
              <a:tr h="22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992160" y="503280"/>
            <a:ext cx="765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ые возможности предоставляю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2520" y="3833640"/>
            <a:ext cx="2656080" cy="207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2520" y="1673280"/>
            <a:ext cx="265608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92880" y="3833640"/>
            <a:ext cx="2070000" cy="207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2520" y="1763640"/>
            <a:ext cx="2205000" cy="1944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7520" y="3924360"/>
            <a:ext cx="1978200" cy="1979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17520" y="1628640"/>
            <a:ext cx="1979640" cy="2033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riySheremet</cp:lastModifiedBy>
  <dcterms:modified xsi:type="dcterms:W3CDTF">2008-01-24T21:19:14Z</dcterms:modified>
  <cp:revision>3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