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0EB-886B-43D1-97D5-72BE6ECC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CF3-51E8-41E0-AD0E-9395586E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A2C-7973-4BF7-B20D-4A5F9BBB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6AD-CFBF-4F06-90A9-DFEEFE4D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25BB-2B73-4E72-8B2B-C3CA790D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2203-B54B-407C-91BD-DB476EE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B6F3-3C14-4320-898C-D7724A8F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31F9-FF06-40A0-B936-600E60A8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5D77-CAB6-48D1-B142-8BCB852E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FA6C-0E66-42BF-A412-6812DE93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B462-ACB9-4645-81AB-0D16FF70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A51-3F0B-49ED-B38E-7B9D999F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30E2-AF78-4A51-84AF-A2187CA1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1FE9-0A77-42C5-B66F-216EBC08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D32-5397-42BC-9E04-CB87DE8D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F1B0-5AB2-4686-9051-B6790FFB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4B27-40A5-482B-B7FD-349F7E52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C63-53A5-4950-945D-5E102429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BC5-D370-4D03-812B-3697AC0E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B29-1F20-450A-89B7-30C1EA0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CEE-F4BE-4BBA-A35F-96F3CD0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88A-6DB2-45CD-BBAC-87DBA73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57A-48DE-443C-B27F-469515C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CC0-187A-4F2A-94CB-A023CF68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79556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114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9280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067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67ED-280E-4A67-B515-364027F128E5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388-3FEA-4CDA-B41E-4D7FAFA6394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794120" y="0"/>
                <a:ext cx="123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100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91360" y="0"/>
                <a:ext cx="7304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52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69236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1962-EBD8-4A50-A1FB-32261B867330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2E07-47B5-4AB8-AD01-7582FB2D446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vionika.com/ru/catalog/marineaudio/audio/?id=1286" TargetMode="External"/><Relationship Id="rId2" Type="http://schemas.openxmlformats.org/officeDocument/2006/relationships/hyperlink" Target="http://www.navionika.com/ru/catalog/marineaudio/audio/?id=1286" TargetMode="External"/><Relationship Id="rId3" Type="http://schemas.openxmlformats.org/officeDocument/2006/relationships/hyperlink" Target="http://www.navionika.com/ru/catalog/marineaudio/audio/?id=1172" TargetMode="External"/><Relationship Id="rId4" Type="http://schemas.openxmlformats.org/officeDocument/2006/relationships/hyperlink" Target="http://www.navionika.com/ru/catalog/marineaudio/audio/?id=1172" TargetMode="External"/><Relationship Id="rId5" Type="http://schemas.openxmlformats.org/officeDocument/2006/relationships/hyperlink" Target="http://www.navionika.com/ru/catalog/marineaudio/audio/?id=1286" TargetMode="External"/><Relationship Id="rId6" Type="http://schemas.openxmlformats.org/officeDocument/2006/relationships/hyperlink" Target="http://www.navionika.com/ru/catalog/marineaudio/audio/?id=1172" TargetMode="External"/><Relationship Id="rId7" Type="http://schemas.openxmlformats.org/officeDocument/2006/relationships/hyperlink" Target="http://www.navionika.com/ru/catalog/marineaudio/audio/?id=1396" TargetMode="External"/><Relationship Id="rId8" Type="http://schemas.openxmlformats.org/officeDocument/2006/relationships/hyperlink" Target="http://www.navionika.com/ru/catalog/marineaudio/audio/?id=1286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.wmf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avionika.com/ru/support/?id=1406" TargetMode="External"/><Relationship Id="rId2" Type="http://schemas.openxmlformats.org/officeDocument/2006/relationships/hyperlink" Target="http://www.navionika.com/ru/support/?id=1406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27160" y="2754360"/>
            <a:ext cx="6302520" cy="105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7520" y="189000"/>
            <a:ext cx="2975040" cy="1962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61800" y="2303640"/>
            <a:ext cx="2926080" cy="1741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61800" y="5454720"/>
            <a:ext cx="1229040" cy="1228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67160" y="907920"/>
            <a:ext cx="5265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силитель мощности в морском исполн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0" y="324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X 490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13240" y="1763640"/>
            <a:ext cx="52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КСИМАЛЬНАЯ МОЩНОСТЬ 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7520" y="2889360"/>
            <a:ext cx="5175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силитель мощности в морском исполн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03600" y="230364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X 290M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3240" y="3608280"/>
            <a:ext cx="52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КСИМАЛЬНАЯ МОЩНОСТЬ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66800" y="5499000"/>
            <a:ext cx="5940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ВОДНОЙ ПУЛЬТ 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ответствует стандарту защиты от воды  - </a:t>
            </a: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IPX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61800" y="4194000"/>
            <a:ext cx="1981440" cy="1125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12880" y="4237560"/>
            <a:ext cx="58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ЛЬТ ДУ С КАБЕЛЕМ ДЛЯ CMD5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12880" y="464328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ответствует стандарту защиты от воды  - </a:t>
            </a:r>
            <a:r>
              <a:rPr b="0" lang="en" sz="2000" spc="-1" strike="noStrike" u="sng">
                <a:solidFill>
                  <a:srgbClr val="ffffff"/>
                </a:solidFill>
                <a:uFillTx/>
                <a:latin typeface="Arial"/>
              </a:rPr>
              <a:t>IPX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573960" y="6129360"/>
            <a:ext cx="3332160" cy="55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87520" y="1359000"/>
            <a:ext cx="4276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онтак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82840" y="2454480"/>
            <a:ext cx="451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ОО «Навион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краина, 02098, Кие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спект Тычины,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дакт-менедж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Шеремет Юр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l:  +380 44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ax: +380 44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94 00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-mail:YuriySheremet@navionik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</a:rPr>
              <a:t>http://www.navionika.com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97160" y="233280"/>
            <a:ext cx="540072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997520" y="3518640"/>
            <a:ext cx="454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еремет Юр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акт - менедже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47880" y="368280"/>
            <a:ext cx="5718240" cy="959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Юрий Шеремет"/>
          <p:cNvPicPr/>
          <p:nvPr/>
        </p:nvPicPr>
        <p:blipFill>
          <a:blip r:embed="rId2"/>
          <a:stretch/>
        </p:blipFill>
        <p:spPr>
          <a:xfrm>
            <a:off x="1025640" y="1854360"/>
            <a:ext cx="3814560" cy="463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449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МОРСКА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влагозащищенная)</a:t>
            </a:r>
            <a:br>
              <a:rPr sz="32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УДИОТЕХНИ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2933640"/>
            <a:ext cx="89154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62160" y="3519360"/>
            <a:ext cx="5715000" cy="2109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rion CMV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97160" y="1403280"/>
            <a:ext cx="5808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иния изделий морской аудиотехники Clarion поднимает нашу приверженность надёжности и инновации на новый уровень. В новом водонепроницаемом корпусе блока использован наш опыт создания изделий, стойких к ультрафиолетовым лучам и солёным брызгам, и улучшенные возможности подсоединения к устройствам iPod® и другим портативным музыкальным устройствам. Это ещё больше усиливает позиции Clarion среди лидеров, производящих морские аудиосистем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17520" y="1359000"/>
            <a:ext cx="3619440" cy="170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61800" y="3608280"/>
            <a:ext cx="909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2880" y="3338640"/>
            <a:ext cx="909324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Готов к DVD-Video/DVD±R/DVD±RW/CD/ CD-R/RW и DivX®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вместимость с MP3, WMA и iTunes® AAC с отображением теги ID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Изделие, имеющее официальную серти- фикацию Div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оспроизводит все версии видео DivX (включая DivX 6) со стандартным воспроизведением мультимедийных файлов Div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удио вход USB для устройства iPod (задний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24-битовый ЦА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BBE MP для улучшения звучания сжатого аудио (только для режима USB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одонепроницаемая откидная панель управления с 3,5-дюймовым цветным монитором ЖК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6-канальный предварительный аудио выход и 2-канальный видео вы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2-канальный вмонтированный предварительный аудио вы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ход RCA виде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4 × 50 Вт встроенный усил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Водонепроницаемый корпус из нержавеющей ста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 iPod видео (дополнительный CCA72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Готов к новому проводному ПДУ (дополнительный MW1/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087880" y="0"/>
            <a:ext cx="4545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9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07880" y="419040"/>
          <a:ext cx="2925720" cy="5162760"/>
        </p:xfrm>
        <a:graphic>
          <a:graphicData uri="http://schemas.openxmlformats.org/drawingml/2006/table">
            <a:tbl>
              <a:tblPr/>
              <a:tblGrid>
                <a:gridCol w="2925720"/>
              </a:tblGrid>
              <a:tr h="464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 водонепроницаемой откидной лицевой панелью находится отверстие для загрузки дисков CD и DVD и их воспроизведе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дний порт USB с управлением iP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дний порт USB также поддерживает воспроизведение файлов WMA/MP3/ AA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-канальный предварительный аудио выход для наращивания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557440" y="3033720"/>
          <a:ext cx="3154320" cy="79380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67160" y="324000"/>
            <a:ext cx="203832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718240" y="1538280"/>
            <a:ext cx="2038320" cy="1333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513240" y="2754360"/>
            <a:ext cx="2038320" cy="1333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762520" y="3924360"/>
            <a:ext cx="2038320" cy="133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07880" y="1314360"/>
            <a:ext cx="3240360" cy="153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03240" y="63828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ri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MD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27160" y="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Головные устр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7520" y="2664000"/>
            <a:ext cx="46800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 к CD-R/R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имость с MP3 и WMA с отображением тега ID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 FM, 6 AM запрограммированных стан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можность подключения управления iPod через дополнительный EA12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лючение встроенного усил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канала × 50 ватт усил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идная панель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-линейный яркий дисп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ащающийся регулятор громк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аудио вход с регулировкой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-канальный выход предварительного усиления аудио с управлением громкости фронт-ты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CeNET: Тюнер ТВ, 6-дисковый чейнджер и iPod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 к дополнительному трансиверу Bluetooth BLT373 для аудио/сотового телефо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ует ASTM B117 &lt;Защита от соли/брызг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сетвтует ASTM D4329 &lt;Защита от ультрафиолетовых лучей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крытие HemiSeal для PC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донепроницаемый корпус из нержавеющей ста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27160" y="4643280"/>
          <a:ext cx="2788920" cy="1807920"/>
        </p:xfrm>
        <a:graphic>
          <a:graphicData uri="http://schemas.openxmlformats.org/drawingml/2006/table">
            <a:tbl>
              <a:tblPr/>
              <a:tblGrid>
                <a:gridCol w="278892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RCB1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                  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местимость: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CMD-6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M-3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Clarion RCB176"/>
          <p:cNvPicPr/>
          <p:nvPr/>
        </p:nvPicPr>
        <p:blipFill>
          <a:blip r:embed="rId2"/>
          <a:stretch/>
        </p:blipFill>
        <p:spPr>
          <a:xfrm>
            <a:off x="766800" y="4778280"/>
            <a:ext cx="809640" cy="16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1803240" y="3249720"/>
          <a:ext cx="2565360" cy="1368360"/>
        </p:xfrm>
        <a:graphic>
          <a:graphicData uri="http://schemas.openxmlformats.org/drawingml/2006/table">
            <a:tbl>
              <a:tblPr/>
              <a:tblGrid>
                <a:gridCol w="2565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CMRC1-S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                                        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вместимость: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CMD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M3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" descr="Clarion CMRC1-SB"/>
          <p:cNvPicPr/>
          <p:nvPr/>
        </p:nvPicPr>
        <p:blipFill>
          <a:blip r:embed="rId3"/>
          <a:stretch/>
        </p:blipFill>
        <p:spPr>
          <a:xfrm>
            <a:off x="407880" y="3114720"/>
            <a:ext cx="1258920" cy="116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863960" y="863280"/>
            <a:ext cx="504216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Clarion M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30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рской AM/FM проигрыватель компакт-дисков CD-R/CD-RW/ MP3/ WMA с отображением ID3-TAG/CeNET CONTROL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Характеристики: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ддержк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US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CeNET CONTROL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CD-R/RW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едусмотрено ДУ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вухполосный эквалайзер(Z-Enhancer Plus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строенный настраиваемый низкочастотный кроссовер с контролем громкости сабвуфера: 50Hz/80Hz/12QHz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Magna Bass EX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щность 208 Вт [52 Вт x 4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4-канальный RCA выход уровня сигнала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стройка громкости вращающимся энкодеро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зможность программирования диспле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зможность настройки контрастности диспле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ъемная лицевая панель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Pengal Z PC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CD и титры радиостанций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адио Magi-Tune+ с 18FM/6AM настройкам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CeNET Control опций: TV тюнер, DVD чейнджер and 6-дисковый CD чейнджер, спутниковое ТВ, радио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ункция iPod Control (необходим EA125B/ CeNET iPod Interface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Adjustable AUX In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овместим с дополнительным проводным пультом Д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larion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CMRC1-SB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Clarion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 CMRC2-SB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</a:t>
            </a:r>
            <a:r>
              <a:rPr b="0" lang="ru-RU" sz="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 </a:t>
            </a:r>
            <a:br>
              <a:rPr sz="800"/>
            </a:br>
            <a:r>
              <a:rPr b="0" lang="ru-RU" sz="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638280"/>
            <a:ext cx="47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Clarion 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336840" y="536400"/>
          <a:ext cx="2540160" cy="2179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</a:tblGrid>
              <a:tr h="21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36840" y="3081240"/>
          <a:ext cx="182520" cy="2602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9" name="" descr="Clarion CMRC1-SB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1800" y="2979720"/>
            <a:ext cx="1123920" cy="1063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Clarion CMRC2-SB"/>
          <p:cNvPicPr/>
          <p:nvPr/>
        </p:nvPicPr>
        <p:blipFill>
          <a:blip r:embed="rId10"/>
          <a:stretch/>
        </p:blipFill>
        <p:spPr>
          <a:xfrm>
            <a:off x="677880" y="4599000"/>
            <a:ext cx="1035000" cy="1109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47880" y="3292560"/>
            <a:ext cx="38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rion CMRC1-S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2160" y="5002920"/>
            <a:ext cx="77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rion CMRC2-SB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2"/>
          <a:stretch/>
        </p:blipFill>
        <p:spPr>
          <a:xfrm>
            <a:off x="903240" y="1449360"/>
            <a:ext cx="3048120" cy="93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087880" y="0"/>
            <a:ext cx="4545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9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           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Морской AM/FM CD проигрыватель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Характеристики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D-R/R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функция Magna Bass EX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Z-Enhanc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мощность 200 Вт (50 Вт x 4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6-канальный RCA выход уровня сигнал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настройка громкости вращающимся энкодер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радио с 1BFM/BAM настройка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съемная лицевая панел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82520" y="819000"/>
          <a:ext cx="2295720" cy="912600"/>
        </p:xfrm>
        <a:graphic>
          <a:graphicData uri="http://schemas.openxmlformats.org/drawingml/2006/table">
            <a:tbl>
              <a:tblPr/>
              <a:tblGrid>
                <a:gridCol w="2295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arion M1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557440" y="3033720"/>
          <a:ext cx="3154320" cy="96048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"/>
                        </a:rPr>
                        <a:t>  </a:t>
                      </a:r>
                      <a:r>
                        <a:rPr b="0" lang="en-US" sz="4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880" y="3338640"/>
            <a:ext cx="4095720" cy="742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438960" y="6084720"/>
            <a:ext cx="3332160" cy="55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812880" y="1898640"/>
            <a:ext cx="3047760" cy="952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Clarion CMCX7.1S"/>
          <p:cNvPicPr/>
          <p:nvPr/>
        </p:nvPicPr>
        <p:blipFill>
          <a:blip r:embed="rId1"/>
          <a:stretch/>
        </p:blipFill>
        <p:spPr>
          <a:xfrm>
            <a:off x="496800" y="5493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Clarion CMCX7.1"/>
          <p:cNvPicPr/>
          <p:nvPr/>
        </p:nvPicPr>
        <p:blipFill>
          <a:blip r:embed="rId2"/>
          <a:stretch/>
        </p:blipFill>
        <p:spPr>
          <a:xfrm>
            <a:off x="3332160" y="5493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Clarion CMCS7.1"/>
          <p:cNvPicPr/>
          <p:nvPr/>
        </p:nvPicPr>
        <p:blipFill>
          <a:blip r:embed="rId3"/>
          <a:stretch/>
        </p:blipFill>
        <p:spPr>
          <a:xfrm>
            <a:off x="3378240" y="3473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Clarion CM1625"/>
          <p:cNvPicPr/>
          <p:nvPr/>
        </p:nvPicPr>
        <p:blipFill>
          <a:blip r:embed="rId4"/>
          <a:stretch/>
        </p:blipFill>
        <p:spPr>
          <a:xfrm>
            <a:off x="6257880" y="5493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Clarion CM1605"/>
          <p:cNvPicPr/>
          <p:nvPr/>
        </p:nvPicPr>
        <p:blipFill>
          <a:blip r:embed="rId5"/>
          <a:stretch/>
        </p:blipFill>
        <p:spPr>
          <a:xfrm>
            <a:off x="496800" y="34732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38240" y="0"/>
            <a:ext cx="58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устические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2880" y="30686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CMCX7.1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2520" y="3068640"/>
            <a:ext cx="22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CMCX7.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02520" y="3068640"/>
            <a:ext cx="25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625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2880" y="59943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2520" y="59943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lar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S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122880" y="3473280"/>
            <a:ext cx="3645000" cy="2476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0" y="59500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MQ6930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19T23:00:29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